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BAAA-C088-49ED-9B26-7A985742B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22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2F8B-1C8A-45A4-8208-AA308BDA9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DDAC-563C-4213-B998-FBADFBF3A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C39D-7805-493E-B385-C7D969334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FDFA8-8994-4D78-B646-6E29A0BE7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593F3-CA77-490C-8BED-3D2D38B21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49B21-9090-4504-BC92-DCB855C30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9072F-C50A-4D7A-BC9E-50EA579C2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4B0FE-BAD6-48C0-AD38-EBB1DB667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37110-08F0-433F-AA2B-D5D019752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C9209-AE35-4903-8819-04F5AF54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D9F8-351A-4F95-B2B1-C3AF7F15F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2F9A3-B053-4268-93C2-66004B0F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BF162-4A12-4A72-BD37-9674553E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22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20F5B-3C69-4A3C-840A-5AE5D0253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9E680-6900-404D-8211-CEF2E1888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5C2D6-2A8D-4B60-B1C7-6A8B334F3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753A-1A26-428A-9857-93774961C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DC32-0486-4CED-9657-8FD95E537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F8F8-A2E6-47B2-833D-0EF10EA94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3159-F151-4694-ABC6-EE475D93F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2A87-183E-49CC-9B70-682326EF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A432-6AF2-48D1-ADBB-6E11D387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EF63-E747-4A0F-9DBA-35D2DF39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3972F-1F64-4110-B30C-0BDDAB23A08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28110-9FDA-4B8E-A6A8-67BE5DF3DBD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allgraf.net/uploads/posts/2009-05/1241827697_2-school-board.jpg" TargetMode="External"/><Relationship Id="rId3" Type="http://schemas.openxmlformats.org/officeDocument/2006/relationships/hyperlink" Target="http://files.vector-images.com/clipart/schoolsupplies_gk1.gif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56800" y="1000080"/>
            <a:ext cx="7000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071720" y="2714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втор данного шаблон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Ермолаева Ирина Алекс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учитель информатики и математ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ОУ «Павловская сош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.Павлов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лтайский кр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643040" y="1600200"/>
            <a:ext cx="704376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allgraf.net/uploads/posts/2009-05/1241827697_2-school-board.jp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files.vector-images.com/clipart/schoolsupplies_gk1.gi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3" descr=""/>
          <p:cNvPicPr/>
          <p:nvPr/>
        </p:nvPicPr>
        <p:blipFill>
          <a:blip r:embed="rId4"/>
          <a:stretch/>
        </p:blipFill>
        <p:spPr>
          <a:xfrm>
            <a:off x="428760" y="1571760"/>
            <a:ext cx="121428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30T18:26:11Z</dcterms:created>
  <dc:creator>Comp</dc:creator>
  <dc:description/>
  <dc:language>en-US</dc:language>
  <cp:lastModifiedBy>Comp</cp:lastModifiedBy>
  <dcterms:modified xsi:type="dcterms:W3CDTF">2011-07-30T18:31:55Z</dcterms:modified>
  <cp:revision>3</cp:revision>
  <dc:subject/>
  <dc:title>Слайд 1</dc:title>
</cp:coreProperties>
</file>