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7BA6-DE58-4B20-A455-F385DFEC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D0C-B90C-46CC-A0DA-219B7207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5E1-A526-4F0D-9282-E0AD9849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AB7-8B4C-486E-9B19-72BB13C0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4E72-8F36-44E7-9F92-33EFCB0A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DC26-AF78-4D53-8DD7-5D06B6AA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2B53-AB22-4E03-AA52-BCBA8FB7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6ACB-725B-4109-A081-29E14874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4DD7-AFC9-4F4B-A436-37CDC28F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9309-136A-4052-A5A1-3549B642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495E-401E-4DF2-AF81-7DE5075E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D6B-5CDB-4BAA-A566-DE8D2D39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488E-C543-4564-893B-C2D6A3DC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C421-07D6-4139-8A9E-CA0BC91E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91BD-9DEE-4645-934B-8CA44E3F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B424-D11A-4DFE-93E0-9872B19A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DF98-DD5D-46C8-A44B-1A14111E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DC88-833E-4D00-81C7-21B2872B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08A-EF52-48AF-83FC-3A619D72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20F-FEE9-4402-97D0-B770C152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A49-4FB1-42BF-84F3-CC952CAE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979-EC6C-47BD-9C4B-5C75D86F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5BA-B95B-42FA-87E3-0F592C4A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83C-88A3-4D47-938E-ECAF5CA3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D5BA-AF94-4996-966D-1A5EB478EC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000240" y="571680"/>
            <a:ext cx="564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егодня на уро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C6EB-9BC6-4017-8542-D36FCB010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71520" y="1928520"/>
            <a:ext cx="5600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29000" y="3571920"/>
            <a:ext cx="51436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643040" y="1600200"/>
            <a:ext cx="70437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patcollinscm.webs.com/globe2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74202s031.edusite.ru/images/risunok1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016.radikal.ru/0805/11/baa91c67ab38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ap-world.ru/geo-small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d:\Мои документы\Мои рисунки\risunok1.png"/>
          <p:cNvPicPr/>
          <p:nvPr/>
        </p:nvPicPr>
        <p:blipFill>
          <a:blip r:embed="rId2"/>
          <a:stretch/>
        </p:blipFill>
        <p:spPr>
          <a:xfrm>
            <a:off x="714240" y="2571840"/>
            <a:ext cx="642960" cy="633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d:\Мои документы\Мои рисунки\globe2.png"/>
          <p:cNvPicPr/>
          <p:nvPr/>
        </p:nvPicPr>
        <p:blipFill>
          <a:blip r:embed="rId3"/>
          <a:stretch/>
        </p:blipFill>
        <p:spPr>
          <a:xfrm>
            <a:off x="785880" y="1571760"/>
            <a:ext cx="617400" cy="78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User\Рабочий стол\картинки на школьныю тему\Рисунок2.png"/>
          <p:cNvPicPr/>
          <p:nvPr/>
        </p:nvPicPr>
        <p:blipFill>
          <a:blip r:embed="rId4"/>
          <a:stretch/>
        </p:blipFill>
        <p:spPr>
          <a:xfrm>
            <a:off x="642960" y="3429000"/>
            <a:ext cx="806400" cy="857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428760" y="464328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ографическая ка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5:55:29Z</dcterms:created>
  <dc:creator>Comp</dc:creator>
  <dc:description/>
  <dc:language>en-US</dc:language>
  <cp:lastModifiedBy>Comp</cp:lastModifiedBy>
  <dcterms:modified xsi:type="dcterms:W3CDTF">2011-07-31T16:42:02Z</dcterms:modified>
  <cp:revision>8</cp:revision>
  <dc:subject/>
  <dc:title>Слайд 1</dc:title>
</cp:coreProperties>
</file>